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8D7-AAF2-4D96-8B4C-BF8AAD11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A54-971D-41FA-AF32-8B2890BB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B55-8C4F-447F-93EA-33A4E7F5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739-A1FD-4A0E-A701-B97086A7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9D5-FE2F-4161-8A1A-6C21488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D29-CF98-46CA-93A3-66CFFB7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52D-B947-411B-AEA9-C14D6ACF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A72-4C8A-4FD0-B66F-F494C74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4BF-4582-4F75-AC4E-95071E61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5C6-247E-468E-9448-051B30E5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C81-94C2-41AE-B80B-60161D6D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F8D-1ED9-4993-959B-AD10EB1C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DA2D-DEEB-4736-B314-CC26BC69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ing.com/images/search?q=zombie+pics&amp;id=0E41164F2F9226D8338BBFEC8AD60B059A8A55B9&amp;FORM=IGRE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zom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cc00"/>
                </a:solidFill>
                <a:uFillTx/>
                <a:latin typeface="Jokerman"/>
              </a:rPr>
              <a:t>By Owen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Joker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the zombie yes the face eating undead husk that will turn you in to a hu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19760" y="1600200"/>
            <a:ext cx="3495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Zombie - Resident Evil Wiki - The Resident Evil…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3962520"/>
            <a:ext cx="197784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s of zomb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246672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29718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429000" y="4343400"/>
            <a:ext cx="525780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1300"/>
            </a:gs>
            <a:gs pos="100000">
              <a:srgbClr val="641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3:01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45Z</dcterms:modified>
  <cp:revision>8</cp:revision>
  <dc:subject/>
  <dc:title>Natural Disasters</dc:title>
</cp:coreProperties>
</file>